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5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86FA-B72A-4564-8991-59AAD98C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450-14B8-4D35-B221-C560B1AB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43E-1411-4ACB-BBD9-2FF058F5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733-E190-48BB-A065-F8EC88D2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FEA8-1B8E-46F6-B69F-B61F6B5F1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BC77-423C-41C4-BFAD-A2CFD40E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18A60-D738-4BE6-AD8B-914D9BA9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4D9F-AAB1-464E-AB71-D070EF99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83A9-59BC-4954-A0F5-797B76DF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AB5D-3A84-4DBB-8FA1-F2018823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9954-F0C7-488A-9233-85B81AB09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25F-1633-4639-B816-F7E0CCB8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8B54-64F0-4004-B9F5-F7090C1C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F0E2-82C7-4E77-B0DE-69A0EC5D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AAD7B-3577-4C62-ADD4-4803BD12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7984-C091-424E-ADC9-EFFDF6DE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D45D-5429-46EF-AD60-0034FEEC2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2BE1-6135-4922-9899-35E5E808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3A7F-177C-45BF-A524-F3146664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BFDF-0C20-40F4-A309-6691F883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109D-D1DB-4167-8F7C-1C7C50EF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752-6D95-438C-AA69-AB03C16E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FB7F-D7BF-470E-AF4C-1D4A9F4A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AD5-1CC3-4390-AD02-6FC58E74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354-D4B1-4030-A8D2-48324CAABA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6A27-2BBC-44D3-ACE8-B4BE82A94B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s.google.com/imgres?imgurl=http://www.lclark.edu/~soan221/96/mustache.GIF&amp;imgrefurl=http://www.lclark.edu/~soan221/96/foodtrend.html&amp;h=725&amp;w=525&amp;sz=246&amp;hl=en&amp;start=2&amp;um=1&amp;tbnid=3sKQx5WaTbSXKM:&amp;tbnh=140&amp;tbnw=101&amp;prev=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Propagand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875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Glittering General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words and phrases that sound appealing and everyone agrees 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. “I stand fo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edo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erican Wa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495680" y="1523880"/>
            <a:ext cx="441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Symbol Transfer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ng yourself to a respected person, group, or symb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ember the words of Abe Lincoln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ld be used to connect opponent to something bad as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4248000" cy="41911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34120" y="9144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7913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didate associates himself with medicine usually a good th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3576600" cy="42670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066680" y="99072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57913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panese portrayed as overpowering barbari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Card St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use facts that support your argument and hurt op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: “My opponent voted against raising Social Security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You don’t mention that the reason he did that was because the increase was too sma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. Card Stack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2803680" cy="35053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267080" y="1219320"/>
            <a:ext cx="4496040" cy="34160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09480" y="4876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Card Stacking is used many times during debate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759560" cy="4648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 what does this all mean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43000" y="6095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y Confused Voters!?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Propagand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sleading Messages, information, or rumors to influence public opin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info. In any way that supports a predetermined 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 Used in Political Campa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rt of Propaga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itially used on mass scale by advertisers to sell produc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447920"/>
            <a:ext cx="3614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Propagand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d in many way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 of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Campa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Political Propaga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Plain Fol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using the plain-folks technique, speakers attempt to convince their audience that they, and their ideas, are "of the people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erica's recent presidents have all been millionaires, but they have gone to great lengths to present themselves as ordinary citize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Plain Fol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496040" cy="32256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1371600"/>
            <a:ext cx="3809880" cy="49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l Clinton ate at McDona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Bush Sr. Admitted to hating Brocco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orge Bush on his ranch in Texas doing manual lab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Bandwa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ges voters to support a candidate because everyone 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 of us want to be left behind, this technique can be quite successfu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191120" y="1752480"/>
            <a:ext cx="472428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Name Cal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-calling technique links a person, or idea, to a negative symbo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pes the audience will reject the person on the basis of the negative symbol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e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looking at the available evidenc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267080" y="1676520"/>
            <a:ext cx="4496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2T20:15:03Z</dcterms:created>
  <dc:creator>gx270</dc:creator>
  <dc:description/>
  <dc:language>en-US</dc:language>
  <cp:lastModifiedBy>gx270</cp:lastModifiedBy>
  <dcterms:modified xsi:type="dcterms:W3CDTF">2008-04-24T18:30:12Z</dcterms:modified>
  <cp:revision>3</cp:revision>
  <dc:subject/>
  <dc:title>Political Propaganda </dc:title>
</cp:coreProperties>
</file>